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204D4-87DB-46EC-85CD-B9AC416D9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F7AED-7DB7-4391-B7AD-6D788BF4976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B8346A-F486-4511-AD68-4B1850AB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95DD5D-126D-43ED-8597-91326A53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E92AC9-DAEB-4BFC-9E7A-0F0A4CC0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FC2B1F-4EC4-46D3-B56F-2AD1061C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F349E1-1E72-49F7-854B-84F3DCAB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030F7A-9D5D-4894-B2ED-6DD1FD20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653450-1D68-4382-BB65-C9BBB566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F4DD5A-EB7E-431B-9D48-344BA04A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9F6490-E137-49F7-93D8-20075BD9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7AB152-AB88-40C6-AEAC-1BA2EC9C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8DD44-4C4C-4337-8455-963319C47A1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2C2920-2726-43C0-AC20-F3D4F089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5CC311-D760-47A3-B84B-CD69EDA4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D7703F-E183-432A-BCB2-DE02A86B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68C7FB-320E-4B63-A707-A8EC26C1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171B4C-F8F0-4B8C-84EE-BB6785F3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938574-96A4-4B70-8C2D-6EF504EF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3CEFDC-4C73-45FA-9220-7E2888F9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92FD99-76B1-49A1-ABAA-E6419C32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F3289B-5F47-4877-B365-7580C802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68EA04-DFB8-44E5-82E3-9BB4D78A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D39AC-3AF7-45D0-A807-D41A3CCFB06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8D6034-F019-4AEB-BD53-4DC52CD3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58562E-3199-41C8-A5C5-8247FCCD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4B9BD9-A616-4B98-9809-52EFC497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1E2B08-B023-4195-AD60-B181D3C9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91B913-C31F-4325-9194-B941ABF7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C498A5-4690-4E02-BFD1-2FE39AF2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1CD09C-EA76-48D4-B365-22F173CB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35C2AA-9CBA-4885-8A74-AB9545C6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7B6682-68BE-452D-A0C5-682F764C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4771C8-FDA1-4826-90FD-2B238F87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9670D-C6E2-43D7-BD4F-9E476616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1CCEF5-F567-490D-B569-F0AAA16A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3EE12B-A515-40A1-8419-6BE5890E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F4E4A0-179C-49BB-BB06-62499F83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C0E2B5-2899-44FA-84C2-A16219E4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BAD4DF-84D7-4ADA-A024-5F7D5AD7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BD343D-8097-4CC6-8654-9E158D63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6B9FBF-7E04-484A-8889-76ACA7C7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3FEFA6-99A3-4DF4-9473-85DA53A9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AF2D2F-4372-4D63-9836-6FB06D52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5A2EAA-AA71-419A-AFC4-855FD26D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9FC7C-F566-41DF-905C-A7A98A37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106390-3934-44C7-9985-45BA5F43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2FC967-052D-45A8-85AC-125E3558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1D7D5E-12F9-48CC-BAA3-9DD16E05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397F84-501D-4389-BAA9-2B1D98F3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18186A-89B2-4ED1-97CF-6C08E462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9B7BD-3DA2-4DD3-BCA6-287C8114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4F924-1E8D-45AF-A8F4-79FB1D78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D42E0-B4D1-4806-9095-38C30C66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DDA3A-78CB-4F77-9181-38D8684A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7A8E0-CB8B-46AE-9C63-85565BF3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FC5A0-83A3-48D8-BBB6-A2ADB9DAE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C45EA-4130-467A-B145-96C06393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BD37C-7926-4610-8AB3-E88672A0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3F6C9-EEF0-4AEC-B54A-3992CB57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E19CC-FC99-4D74-BB70-C1231167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6A58D-D20D-4736-B3BF-FF261650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7D7F2-0175-4B36-B3FE-5C3A828C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54A6F-D807-4977-BFA4-66F4F87C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6C062-2BB6-497A-928D-B774D396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66085-8373-4A74-9776-6E59701B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29497-6391-4B5B-8AA4-1D901724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5E569-A46D-4DC3-83C7-77883FC2B1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36EA60-1D0A-4679-9AB5-FCD6A013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A720ED-C482-4024-B8B6-A0D3BC5F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64C66-DC1B-4A9E-8AA1-B27AE491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9E5788-3FF0-419C-B965-63D0D4EB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09D52-6084-420F-95E1-55A87F49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6D51D1-2C45-4BDF-BFAE-DDDAB68E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58BEE-6045-4EDF-9F60-31BD38CC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98DB5C-2369-4135-AFA4-AEE6857F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AB5AD2-2CEE-4F55-A28C-AEB090BA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DDCEBE-1478-4B84-A116-2BA955EE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8F308-ADB5-44B0-A39C-0DBD271E4C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877726-F3A7-46ED-9193-9CAE9046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7618A9-279C-4598-AB9B-F14164D5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DF1095-DD16-4D25-B9EA-57D8A808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C7BF23-C7CD-4115-9C49-0026E508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15F929-609D-4341-B34A-6A1C56E7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F1BD3A-C459-4FFE-95F0-7CF30426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C06F46-1DE1-4151-A83C-18C54E84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5848F6-9EDD-4AD1-9B88-A30CEC42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534EB3-6413-49BE-AAEE-962D0BD1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9BB2A0-5409-4C2F-BAF6-E73199BD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46A95-280A-47F9-AE8A-D811DD900DE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44B0B5-1308-41DE-B442-3AD4DCE4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28B2A1-7860-4229-827E-6C88BE15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047F42-B82D-486C-8001-8D94AA2F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0E12C-211E-4161-B4E8-E050D5D6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813979-FC82-4203-B8E4-9BF6E3F7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E9E796-080A-405D-BAB6-75CF485F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9AB4FB-5A6F-430F-BD2A-687BC368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E43372-C370-4EB4-B70F-23FB11CD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54A8B7-7173-4D3C-A0E3-5D0DC9BC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D3985C-A088-473E-8E51-B8828FF2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F8749-F957-443D-A5F4-B0FF6F55808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895D14-8E53-4402-8AD6-86AF7F51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C9059E-5730-4E08-B5DF-30078E54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5B78BB-6870-46F1-B831-B3CF0E07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A52104-AD81-4069-9C91-489DAACF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6DADCB-738F-4E58-9ED5-F6DAE680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95E861-0A10-43C1-B0B5-508D3E1E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3AF19B-00C0-46FC-B91C-F036D4D0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C49EFA-FBC4-417B-AF43-978CC413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AE46B3-AE3C-4B59-9AFB-68460810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339B9B-8084-4278-8F7E-A9F3D91F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FC148-D8BC-4CC0-803E-1837B83DF81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2333BB-FB3F-4B42-AB5D-8AF7448C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22AF11-5719-4A71-8B31-C0AE6712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6ED4F0-BB8E-4C31-AB4C-E322AB27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1C9587-A1EE-481E-8C5F-E53EA75B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E927F4-B503-4EAB-A0AB-AFF23A46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BB8FE3-699F-4AAD-B750-679F4C0E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CE1EAB-3627-4D38-A1A4-303FD8BF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07799E-E520-4A0F-962D-28DBB3F6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302548-144B-4DDE-8FBC-A360434C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063676-C640-49BC-A0DD-43BD9078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DE030-141B-445A-8700-F848BE137AD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2A50D5-7B00-434C-BF74-37FEC1B1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68DE16-CFEB-4D09-9404-D2FA8FD0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68D712-A74E-4189-B116-4435AAC4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53B12A-11A8-4EBF-A6CA-A76FC316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B14AE6-513E-423C-83C3-EEBD4267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2D99C3-5954-40E3-8F86-9F114A09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FA5753-407A-44AC-8561-B099341D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BE9CE7-B624-4A18-B6CF-B068B3DC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A4FAFD-4E69-48A4-BFCA-F89591B8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203768-9E8D-4C3A-84A1-AE03418F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81B00-C3C1-4092-92D0-742EAE3E1F8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9205E2-703D-4305-A5E3-F7A0BD6A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1E1F07-9AE3-46E3-B299-8A0B228C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DDFC81-B71B-4B2A-8D2E-AADC85EC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08288E-2B4E-4D95-A98B-BF66699E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D93DD4-EFA8-4D86-B1CC-CF54A307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28EA93-638D-49AF-9070-C4463909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42C146-74BD-4200-A444-A1F880D6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F2D51C-A8FA-492C-9B96-07A25D1A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D95515-277C-4DC2-9D04-93A2B87A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78D29E-238F-42BA-87DA-35CF3B65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F195-84CF-4421-AFC1-C2A31BED9B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reeform 9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10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Right Triangle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7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0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6A33-0238-41C7-8232-51A67987CE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1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68D9-DC91-464E-A743-75D937A99D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4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D045-AE08-4EF7-845F-DE3366AEE2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ae1500"/>
              </a:gs>
              <a:gs pos="50000">
                <a:srgbClr val="f7593d"/>
              </a:gs>
              <a:gs pos="100000">
                <a:srgbClr val="ae15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8" name="Freeform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9a49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6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Freef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1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7e9e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7e9e7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9A76-4854-4AA5-83CF-026F3AD6D1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7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D366-5BFF-432F-A69B-B24D5E1225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8" name="Chevron 9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hevron 10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0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C47B-72ED-4B7A-965A-30D3FEF229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3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232B-BC6B-4B25-A8E0-CC055100BD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6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1E1C-AF07-42DC-AA28-C952FF9ECA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2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9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F754-424C-4C37-B11D-1693785FB5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2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8C4D-DE6D-4171-B632-D0729CEB3E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10C8-C9E1-4E59-A91D-A62AD464B4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96464"/>
                </a:solidFill>
                <a:latin typeface="Arial"/>
              </a:rPr>
              <a:t>Ancient Egyp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New Kingd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. 1550–1070 B.C.)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Amarna Perio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. 1349–1336 B.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menhotep IV replaced entrenched religious cults with an unpopular monotheistic religious syst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ramatic stylistic and iconographic changes occ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t the end of the period, traditional artistic style and the priestly hierarchy were reinstat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3D55-C218-46B5-9880-4F6201D3E8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utankhamon’s Tom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utankhamon reigned c. 1336–1327 B.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is tomb was discovered intact in 1922 by English Egyptologist Howard Car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ffigy demonstrates the return to traditional iconograp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contents of Tutankhamon’s tomb ultimately became one of the world’s most popular and widely traveled museum exhib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FC97-6DF5-4E57-9561-4FDE0A146E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gypt and Nub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ubia was rich in natural resources and was often raided by the Egyptia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the Eighteenth and Nineteenth dynasties, the Egyptians built their most imposing temples in Nub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Rock-cut Temple of Ramses II—one of six colossal structures south of Asw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roë—artistic style of artifacts derived from the Egyptian style but demonstrate artistic and architectural independence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AEBF-DCD4-45DF-90C8-F2A9F70AD6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Gift of the N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floods created a fertile river valle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me of one of the most enduring and powerful civilizations in the ancient wor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harao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wer over the people and land virtually absolu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numental art on a vast scale begins with their ru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igned mostly uninterrupted from the fifth millennium B.C. until 343 B.C in the Late Dynastic perio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FAF3-6D1F-4998-B431-259C801997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Egyptian Concept of Kingshi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gyptian kings considered themselves go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ir behavior not an example for the public but a distinction from 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alette of Narm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igned to project the ruler’s pow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claims Narmer’s rule of both upper and lower Egyp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ry image conveys Narmer’s might and importan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2B8B-D436-4B76-B4D7-BAC00309F8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Old Kingd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649–2150 B.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yrami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umental expression of pharaoh’s power, and his burial pl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ceded by smaller funerary structures called mastab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best known were built for three pharaohs of the Fourth Dynas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hufu—known as the Great Pyrami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hafre—son of Khuf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nkaure—son of Khaf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8693-EF50-48B3-A5E4-8E852975F1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Old Kingd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649–2150 B.C.)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gyptian Go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CF1D-0231-44DF-9BBA-914A6B0B51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5" name=""/>
          <p:cNvGraphicFramePr/>
          <p:nvPr/>
        </p:nvGraphicFramePr>
        <p:xfrm>
          <a:off x="1066680" y="2498760"/>
          <a:ext cx="3246480" cy="3154320"/>
        </p:xfrm>
        <a:graphic>
          <a:graphicData uri="http://schemas.openxmlformats.org/drawingml/2006/table">
            <a:tbl>
              <a:tblPr/>
              <a:tblGrid>
                <a:gridCol w="777960"/>
                <a:gridCol w="2468520"/>
              </a:tblGrid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m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od of The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nub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Jackal g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od of the sun di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elper of women in childbi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a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od of the Nile fl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ath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tector of the palace; fert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or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alcon g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mhot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hief minister of Zoser; god of learning and medic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6" name=""/>
          <p:cNvGraphicFramePr/>
          <p:nvPr/>
        </p:nvGraphicFramePr>
        <p:xfrm>
          <a:off x="4830840" y="2498760"/>
          <a:ext cx="3246480" cy="3292560"/>
        </p:xfrm>
        <a:graphic>
          <a:graphicData uri="http://schemas.openxmlformats.org/drawingml/2006/table">
            <a:tbl>
              <a:tblPr/>
              <a:tblGrid>
                <a:gridCol w="777960"/>
                <a:gridCol w="2468520"/>
              </a:tblGrid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vine m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uth, right, and orderly con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Wife of Am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si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od of the underwor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t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eator god of Memph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a (R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un god and supreme ju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rap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mbination of Osiris and Ze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od of storms and viol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ho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od of writing and wisd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Old Kingd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649–2150 B.C.)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ummif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ath: a transitional phase to existence on another pla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ch of art and writings surviving today are funerar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gyptians had great interest in continued material existence in the afterlif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culp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ertain conventions followed for sculpt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more important the person represented, the more rigorously the conventions were observ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gyptian Canon of Proportion—commonly accepted guidelines for depicting the ideal human fig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1D05-49AB-4122-A0D9-B2229B77C5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Middle Kingd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. 1991–1700 B.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numental architecture continu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w form of tomb replaced the pyram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th political turbulence, a new approach to royal representation emerg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C104-5AF5-4263-A20D-47DE366709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New Kingd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. 1550–1070 B.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mple construction continued to be refin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mples were considered a microcosm of the univer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mple of Amon-Mut-Khonsu at Lux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mple entry reserved for the eli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rchitecture had a careful transitional qual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atshepsut’s Mortuary Temple and Sculpt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tshepsut was the first female pharao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 architectural innovation of her reign was the terraced mortuary temple at Deir el-Bahr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8C2C-EC3F-4D7C-A48B-911CD0D8E6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New Kingd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. 1550–1070 B.C.)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in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cient Egyptians were the first to use synthetic pig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ypsum Plaster—in the tomb of Nebamun; abundant use of pale blue pigments made from lapis lazu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apyrus—painting on papyrus from th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ook of the Dea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used graphics and hieroglyphics to help illustrate a funerary ritu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Tomb of Nefertari—one of the best- preserved group of New Kingdom painting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vealed the extraordinary richness of color and complexity of Egyptian royal buria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4B0B-A773-44F8-80A6-801C59E913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8T17:56:54Z</dcterms:created>
  <dc:creator>bekbek</dc:creator>
  <dc:description/>
  <dc:language>en-US</dc:language>
  <cp:lastModifiedBy>krishna.prasad</cp:lastModifiedBy>
  <dcterms:modified xsi:type="dcterms:W3CDTF">2010-10-19T07:04:04Z</dcterms:modified>
  <cp:revision>137</cp:revision>
  <dc:subject/>
  <dc:title>Chapter 1</dc:title>
</cp:coreProperties>
</file>